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19.png" ContentType="image/png"/>
  <Override PartName="/ppt/media/image26.gif" ContentType="image/gif"/>
  <Override PartName="/ppt/media/image20.jpeg" ContentType="image/jpeg"/>
  <Override PartName="/ppt/media/image39.png" ContentType="image/png"/>
  <Override PartName="/ppt/media/image22.jpeg" ContentType="image/jpeg"/>
  <Override PartName="/ppt/media/image7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7.gif" ContentType="image/gif"/>
  <Override PartName="/ppt/media/image52.wmf" ContentType="image/x-wmf"/>
  <Override PartName="/ppt/media/image23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chimes.wav" ContentType="audio/x-wav"/>
  <Override PartName="/ppt/media/image3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7.jpeg" ContentType="image/jpeg"/>
  <Override PartName="/ppt/media/image15.png" ContentType="image/png"/>
  <Override PartName="/ppt/media/image12.jpeg" ContentType="image/jpeg"/>
  <Override PartName="/ppt/media/image8.jpeg" ContentType="image/jpeg"/>
  <Override PartName="/ppt/media/image5.wmf" ContentType="image/x-wmf"/>
  <Override PartName="/ppt/media/image10.jpeg" ContentType="image/jpeg"/>
  <Override PartName="/ppt/media/image54.wmf" ContentType="image/x-wmf"/>
  <Override PartName="/ppt/media/image29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56.jpeg" ContentType="image/jpeg"/>
  <Override PartName="/ppt/media/image3.jpeg" ContentType="image/jpeg"/>
  <Override PartName="/ppt/media/image41.png" ContentType="image/png"/>
  <Override PartName="/ppt/media/image18.png" ContentType="image/png"/>
  <Override PartName="/ppt/media/image59.jpeg" ContentType="image/jpeg"/>
  <Override PartName="/ppt/media/image42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9.jpeg" ContentType="image/jpeg"/>
  <Override PartName="/ppt/media/image50.png" ContentType="image/png"/>
  <Override PartName="/ppt/media/image51.png" ContentType="image/png"/>
  <Override PartName="/ppt/media/image53.jpeg" ContentType="image/jpeg"/>
  <Override PartName="/ppt/media/image40.gif" ContentType="image/gif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307-31E8-4136-BCBA-0944AB5A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7C8-39EB-45F1-AD58-0C30438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D60-2A02-492B-9573-5E5B9F71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18B-83E1-4E9B-A535-5796FF50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A54-5ED6-4553-9A96-CD99B38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F12-ADF6-4FC5-BC36-D8E0CEF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653-E4FF-4F15-9ACA-F69DBD1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EEC-B3A6-4D25-8341-4FA8BA1B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33B-6050-48FA-8150-15D3D8D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6DB-3F17-4ED6-B322-631E7C8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B73-75A0-42E2-AE76-870BD08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0D2-E775-4FAE-A741-CD1884C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507B-5419-4A41-B814-ED41475D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197000"/>
            <a:ext cx="56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храним русскую выхухо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959280" cy="590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4720" y="476280"/>
            <a:ext cx="4390920" cy="28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39092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63972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на затаскивает раковину в нору и когда от долгого пребывания на воздухе её створки приоткрываются, выедает моллю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68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9640" y="5013360"/>
            <a:ext cx="172080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11280" y="692280"/>
            <a:ext cx="1218960" cy="120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01800" y="692280"/>
            <a:ext cx="186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кубы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360" y="1197000"/>
            <a:ext cx="30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одяная ли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103640" cy="575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1800000" cy="1511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79440" y="49212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ост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3888000" cy="5759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37800" y="620640"/>
            <a:ext cx="122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ог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4286520" cy="575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24920" y="492120"/>
            <a:ext cx="237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жегол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836640"/>
            <a:ext cx="1008000" cy="5256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08720" y="2996640"/>
            <a:ext cx="27367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 о р 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765000"/>
            <a:ext cx="3456000" cy="129564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нездов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78136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пасн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6900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есен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69228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637000"/>
            <a:ext cx="3240000" cy="158400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83664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лужат основным жилищем и  мес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ождения молодня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3480" y="265572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для поедания добычи, отдыха, а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пополнения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передвижении по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ь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временным убежищем в период раз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1268280"/>
            <a:ext cx="7775280" cy="4824720"/>
          </a:xfrm>
          <a:prstGeom prst="bevel">
            <a:avLst>
              <a:gd name="adj" fmla="val 12500"/>
            </a:avLst>
          </a:prstGeom>
          <a:solidFill>
            <a:srgbClr val="a6f8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6261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549360"/>
            <a:ext cx="451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хема норы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6400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765000"/>
            <a:ext cx="1152360" cy="5472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5400000">
            <a:off x="-1404000" y="321192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340000" y="112536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5092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7800" y="2421000"/>
            <a:ext cx="132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2160" y="2565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отовидная соб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4160" y="5373720"/>
            <a:ext cx="129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хорь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340000" y="4076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49800" y="5373720"/>
            <a:ext cx="121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4402080" cy="338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9440" y="3357720"/>
            <a:ext cx="178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орноста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284640"/>
            <a:ext cx="34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мериканская нор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4390920" cy="252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1440" y="5805360"/>
            <a:ext cx="1469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49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ибольшее давление оказывают на зверька и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кклиматизированные чужак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724360" y="148428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07240" y="476280"/>
            <a:ext cx="631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з птиц к врагам выхухоли относятс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981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75280" y="2888280"/>
            <a:ext cx="3816360" cy="259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645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3440" y="2924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ё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476360" y="2565360"/>
            <a:ext cx="201600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70880" y="5373720"/>
            <a:ext cx="124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05440" y="5373720"/>
            <a:ext cx="127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816360" cy="5616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20360" y="69228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неясы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960720" cy="561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3080" y="5516640"/>
            <a:ext cx="385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ьшой подорл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73440" y="981000"/>
            <a:ext cx="12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ко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68360" y="549360"/>
            <a:ext cx="4319640" cy="57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29080" y="617400"/>
            <a:ext cx="144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892800"/>
            <a:ext cx="770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Прозвенел опять звонок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И начался наш уро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Будем край мы свой  люби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О животных говорить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3" descr="AG00319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565360"/>
            <a:ext cx="3961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44720" y="5442120"/>
            <a:ext cx="31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отный лу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09800" y="62064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92680" y="549360"/>
            <a:ext cx="679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 даже под водой приходится опас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125360"/>
            <a:ext cx="439236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3716280"/>
            <a:ext cx="388800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31164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02520" y="5373720"/>
            <a:ext cx="1028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44720" y="2852640"/>
            <a:ext cx="11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9343800">
            <a:off x="6300720" y="907920"/>
            <a:ext cx="2160720" cy="115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332000" y="1052640"/>
            <a:ext cx="3960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2133720"/>
            <a:ext cx="779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хухоль – это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5440" y="2637000"/>
            <a:ext cx="145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цвет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5800" y="31417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зверё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6880" y="3573360"/>
            <a:ext cx="28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 название 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076640"/>
            <a:ext cx="801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 Какое другое название имеет выхухоль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4520" y="4581360"/>
            <a:ext cx="184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хохл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4520" y="5013360"/>
            <a:ext cx="177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хохла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5240" y="544500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) хох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873440" cy="165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38360" y="625320"/>
            <a:ext cx="764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Какое из этих животных русская выхухоль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30956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643280" y="1341360"/>
            <a:ext cx="3816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900000" y="2565360"/>
            <a:ext cx="3538800" cy="2019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916360" y="4724280"/>
            <a:ext cx="271944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867280" y="4724280"/>
            <a:ext cx="2552760" cy="1255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8160" y="1125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4160" y="126828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9440" y="249228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5080" y="4653000"/>
            <a:ext cx="38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8520" y="4653000"/>
            <a:ext cx="45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2736720" cy="15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908000" y="981000"/>
            <a:ext cx="48945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565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ассказать дома о том, что узнали на урок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Составить и оформить охранную грамоту выхухо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758600">
            <a:off x="6876720" y="549000"/>
            <a:ext cx="11206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826920" y="476280"/>
          <a:ext cx="4321440" cy="6210360"/>
        </p:xfrm>
        <a:graphic>
          <a:graphicData uri="http://schemas.openxmlformats.org/drawingml/2006/table">
            <a:tbl>
              <a:tblPr/>
              <a:tblGrid>
                <a:gridCol w="538200"/>
                <a:gridCol w="542880"/>
                <a:gridCol w="538200"/>
                <a:gridCol w="543240"/>
                <a:gridCol w="539640"/>
                <a:gridCol w="538200"/>
                <a:gridCol w="542880"/>
                <a:gridCol w="53820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23840" y="21034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2520" y="213372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1800" y="2637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1800" y="31417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716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1800" y="4221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1800" y="472428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180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5080" y="3645000"/>
            <a:ext cx="41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5080" y="422100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7280" y="47671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064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112536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44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800" y="213372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1640" y="26798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44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44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616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6160" y="2708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616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7080" y="371628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708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6072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1440" y="422100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1800" y="47242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1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360" y="580536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11640" cy="255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50040" y="2997360"/>
            <a:ext cx="29206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435640" y="2997360"/>
            <a:ext cx="285588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580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6160" y="3716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580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5440" y="4724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435640" y="2997360"/>
            <a:ext cx="3168720" cy="31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2160" y="2637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1800" y="31417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1800" y="371628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144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2160" y="4724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292720" y="3500280"/>
            <a:ext cx="3311640" cy="248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5080" y="213372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5440" y="2708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7640" y="36878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292720" y="3068640"/>
            <a:ext cx="3311640" cy="25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35240" y="620640"/>
            <a:ext cx="27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8600" y="466560"/>
            <a:ext cx="81453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4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8571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хухоль – загадочный, малоизученный житель с хобо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дущий полуводный образ жизни. Дошёл до н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з глубокой древности в почти неизменё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иде. Таких животных называют жив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копаемыми, ровесниками ма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98028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Абсолютно бесшумно - всплывает, высовывае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з-под воды свой “перископчик”, на подводную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лодку  жуть как похожа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777080" cy="56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981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суше выхухоль довольно беспомощна. Зато в воде чувствует себя прекрасно – быстро плавает, хорошо ныр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2160" y="549360"/>
            <a:ext cx="713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Типичные местообитания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401200">
            <a:off x="611280" y="691920"/>
            <a:ext cx="4097160" cy="266832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516800">
            <a:off x="5006520" y="830160"/>
            <a:ext cx="3738600" cy="2737080"/>
          </a:xfrm>
          <a:prstGeom prst="irregularSeal1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726800">
            <a:off x="1403280" y="1125000"/>
            <a:ext cx="29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комые и их личинки, черви, пиявки, мелкая рыба, лягушки,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108400">
            <a:off x="5579640" y="1773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невища кубышки, стебли рогоза, тростник, водяная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37372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ыхухоль умеет справляться даже с двустворчатыми моллюсками, очень прочно замыкающими свои раковины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Olqa Kruchina</dc:creator>
  <dc:description/>
  <dc:language>en-US</dc:language>
  <cp:lastModifiedBy>Алексей Новоселов</cp:lastModifiedBy>
  <dcterms:modified xsi:type="dcterms:W3CDTF">2009-07-10T05:27:45Z</dcterms:modified>
  <cp:revision>49</cp:revision>
  <dc:subject>Окружающий мир</dc:subject>
  <dc:title>Выхухоль</dc:title>
</cp:coreProperties>
</file>